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170CE-6713-45D0-A768-36F2C291A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7CA2D-4341-49C4-A7BA-60221C51C0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05855-6F32-438A-AA68-B6A61CE21F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  <a:ea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2343F-8866-439E-9392-5165E6C42A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79497-F521-41EB-AF48-0237665ED9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E22A9-235E-4164-902B-8224608390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  <a:ea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783F6-4743-4975-9105-7D3047AD09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F22BB-33A9-4332-B0C0-58250E35FD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a12a"/>
                </a:solidFill>
                <a:latin typeface="Trebuchet MS"/>
              </a:rPr>
              <a:t>–</a:t>
            </a:r>
            <a:r>
              <a:rPr b="1" lang="sr-Latn-RS" sz="1800" spc="-1" strike="noStrike">
                <a:solidFill>
                  <a:srgbClr val="f9a12a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f9a12a"/>
                </a:solidFill>
                <a:latin typeface="Trebuchet MS"/>
              </a:rPr>
              <a:t>Intraperiodontalna anestezija se uglavnom koristi kao anestezija pri infiltracionoj ili mandibularnoj (blok) anestez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49C97E-CFAC-4425-A51E-20A7F9A1FC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  <a:ea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A6B1B5-FB42-4CCD-A046-416D3B7A15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  <a:ea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53397-C4D0-4B59-9841-24634C55E3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800" spc="-1" strike="noStrike">
              <a:solidFill>
                <a:srgbClr val="252525"/>
              </a:solidFill>
              <a:latin typeface="Cambria"/>
              <a:ea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540FD-E299-40D8-BE5A-846D2EE6E1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4FC70-D603-4F54-A57D-F98E51F85D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  <a:ea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8D9C7-91DE-44FB-8129-2D5ECDC4D0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 algn="just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Open Sans"/>
              </a:rPr>
              <a:t>Azot oksid (N2O) je gas bez boje i mirisa, slatkastog ukusa i ukoliko se udiše izaziva dobro raspoloženje i smeh te je poznat kao „gas smejavac“. Smatra se najmanje toksičanim od svih poznatih opštih anestetika, jer se ne razgrađuje u organizmu, već se izbacuje nepromenj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just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262626"/>
                </a:solidFill>
                <a:latin typeface="Open Sans"/>
              </a:rPr>
              <a:t>Brza sedacija već za nekoliko min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just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Open Sans"/>
              </a:rPr>
              <a:t>Ovaj gas deluje tako što se vezuje za krvne ćelije u plućima i putuje do mozga, stvarajući osećaj dobrog raspolože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just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262626"/>
                </a:solidFill>
                <a:latin typeface="Open Sans"/>
                <a:ea typeface="Arial"/>
              </a:rPr>
              <a:t>Kontraindikacije: deca koja su već sarađivala, problem sa gornjim disajnim putev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A5155-4BED-4683-812C-7FFD6419FD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  <a:ea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3DDA5-3A04-48D2-A125-D687CDEAEC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6EDCB-CE3D-487E-BF47-42279A357A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731C1-7319-4462-8014-7C72796077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1800" spc="-1" strike="noStrike">
              <a:solidFill>
                <a:srgbClr val="f9a12a"/>
              </a:solidFill>
              <a:latin typeface="Trebuchet MS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84668-1F2F-4970-8BC2-F9356F5A9C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a12a"/>
                </a:solidFill>
                <a:latin typeface="Trebuchet MS"/>
              </a:rPr>
              <a:t>U stomatološkom radu izbor anestetičkog rastvora za postizanje lokalne analgezije, pre svega, zavisi od konkretnih terapijskih potreba i od farmakoloških osobina anestetičkog rastv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9a12a"/>
                </a:solidFill>
                <a:latin typeface="Trebuchet MS"/>
              </a:rPr>
              <a:t>Ovo je posebno važno za dečji uzr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817D1-F47A-4541-B868-931923A9EE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917-9353-43A7-92DA-3E9F4705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13A8-1017-4B88-AE5A-399CE367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65A4-AA0F-4E1C-BE18-579672B5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56E-F64E-4C99-B29B-1AFBB4CD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E6EC-3343-4301-B320-558D0E4C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5AC4-F7A9-47CF-9A30-4BC09611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72A5-4AFE-4DA3-A4C2-3088B790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178-6778-49B3-A889-0F7EC0CE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383-E798-4A49-B14C-E96E5B50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992-97B3-4A01-95F7-7B76C60F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454-0AD0-498F-A567-8F91E637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2D7F-2F5F-4E80-94B4-EEBB7C21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C8CF0-3887-4F3D-81D9-F3C4701D10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3964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500120" y="1655640"/>
            <a:ext cx="97171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DEČJ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: Rounded Corners 9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04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739800" y="2903400"/>
            <a:ext cx="971388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800" spc="-1" strike="noStrike">
                <a:solidFill>
                  <a:srgbClr val="ffffff"/>
                </a:solidFill>
                <a:latin typeface="Trebuchet MS"/>
              </a:rPr>
              <a:t>KONTROLA PONAŠANJA I BOLA</a:t>
            </a:r>
            <a:br>
              <a:rPr sz="4800"/>
            </a:br>
            <a:r>
              <a:rPr b="1" lang="sr-Latn-RS" sz="4800" spc="-1" strike="noStrike">
                <a:solidFill>
                  <a:srgbClr val="ffffff"/>
                </a:solidFill>
                <a:latin typeface="Trebuchet MS"/>
              </a:rPr>
              <a:t>U DEČJOJ STOMATOLOGIJI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0683720" y="2728800"/>
            <a:ext cx="609840" cy="2324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2454120" y="1955880"/>
            <a:ext cx="1219320" cy="1003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NOMOGRAM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3902040" y="1890720"/>
            <a:ext cx="4329000" cy="4329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87840" y="1967040"/>
            <a:ext cx="693576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P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ostiže  </a:t>
            </a: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se 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kratkotrajna</a:t>
            </a: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analgezija u izabranom ograničenom delu oralne sluzokož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OVRŠINSKA ANESTEZ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OVRŠINSKA ANESTEZ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234800" y="196704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Za površinsku anesteziju se koriste anestetici u obliku gela, tečnosti, spreja, paste ili masti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LEKSUS ANESTEZ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235160" y="1814040"/>
            <a:ext cx="998208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f9a12a"/>
                </a:solidFill>
                <a:latin typeface="Trebuchet MS"/>
              </a:rPr>
              <a:t>Nakon aplikacije lokalnog anestetika, iglom se probija</a:t>
            </a:r>
            <a:r>
              <a:rPr b="1" lang="sr-Latn-RS" sz="2400" spc="-1" strike="noStrike">
                <a:solidFill>
                  <a:srgbClr val="f9a12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9a12a"/>
                </a:solidFill>
                <a:latin typeface="Trebuchet MS"/>
              </a:rPr>
              <a:t>sluzokoža u forniksu malo iznad nepokretne gingive i ide do vrhova bukalnih korenov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234800" y="2271240"/>
            <a:ext cx="1028844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Otvor mandibularnog kanala je sve do nicanja prvih stalnih molara u nivou griznih površina donjih zba, pomeren više prema zadnjoj ivici ramus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„</a:t>
            </a: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MANDIBULARNA“ ANESTEZ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34800" y="196704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Klasične tehnike lokalne anestezije kod dece su delimično modifikovane u odnosu na one koje se primenjuju kod odraslih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SPECIFIČNOSTI KOD DEC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234800" y="196704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Intraperiodontalna anestezija predstavlja anesteziju kojom se anestetički rastvor ubrizgava neposredno uz zub, u početni deo periodoncijum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INTRAPERIODONTALNA ANESTEZ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34800" y="196704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Ova tehnika anestezije se može primeniti: pre davanja infiltracijske ili sprovodne anestezije, za manje hirurške zahvate, kod ekstrakcije mlečnih zuba i aplikacije kvačica za koferda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MLAZNA ANESTEZ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234800" y="196704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Bazira se na laganom kontinuiranom ravnomernom istiskivanju anestetika, približno po jedne kapljice u svake 2 sekunde (stepen volumena zavisi od stepena rezistencije tkiva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WAND SISTEM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34800" y="196704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Lokalne komplikacije mogu </a:t>
            </a: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se 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javiti</a:t>
            </a: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300" spc="-1" strike="noStrike">
                <a:solidFill>
                  <a:srgbClr val="ffffff"/>
                </a:solidFill>
                <a:latin typeface="Trebuchet MS"/>
              </a:rPr>
              <a:t>i</a:t>
            </a: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nfekcija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postanestezijski trismus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postanestezijski bolovi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nekroza posle anestezije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efekat anestetika na susedne nerve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300" spc="-1" strike="noStrike">
                <a:solidFill>
                  <a:srgbClr val="ffffff"/>
                </a:solidFill>
                <a:latin typeface="Trebuchet MS"/>
              </a:rPr>
              <a:t>hematom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300" spc="-1" strike="noStrike">
                <a:solidFill>
                  <a:srgbClr val="ffffff"/>
                </a:solidFill>
                <a:latin typeface="Trebuchet MS"/>
              </a:rPr>
              <a:t>postanestezijski ugriz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Opšte komplikacije su neočekivane promene koje se manifestuju na ceo organizam, a nastaju u toku ili neposredno posle izvođenja lokalne anestezij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KOMPLIKACIJ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234800" y="1814040"/>
            <a:ext cx="1028844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Kontrola bola je neizostavan i važan segment planiranja stomatološkog lečenja u dece i jedan od najvažnijih preduslova za uspešno lečenj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KONTROLA BOL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234800" y="189072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200" spc="-1" strike="noStrike">
                <a:solidFill>
                  <a:srgbClr val="f9a12a"/>
                </a:solidFill>
                <a:latin typeface="Trebuchet MS"/>
              </a:rPr>
              <a:t>Primena farmakoloških sredstava u smislu preoperativne anksiolize </a:t>
            </a:r>
            <a:r>
              <a:rPr b="1" lang="sr-Latn-RS" sz="3200" spc="-1" strike="noStrike">
                <a:solidFill>
                  <a:srgbClr val="ffffff"/>
                </a:solidFill>
                <a:latin typeface="Trebuchet MS"/>
              </a:rPr>
              <a:t>(minimalna sedacija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FARMAKOSEDAC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34800" y="189072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200" spc="-1" strike="noStrike">
                <a:solidFill>
                  <a:srgbClr val="f9a12a"/>
                </a:solidFill>
                <a:latin typeface="Trebuchet MS"/>
              </a:rPr>
              <a:t>Sedacija azotnim oksidulo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INHALACIJSKA SEDAC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234800" y="189072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200" spc="-1" strike="noStrike">
                <a:solidFill>
                  <a:srgbClr val="f9a12a"/>
                </a:solidFill>
                <a:latin typeface="Trebuchet MS"/>
              </a:rPr>
              <a:t>Prednosti su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500" spc="-1" strike="noStrike">
                <a:solidFill>
                  <a:srgbClr val="ffffff"/>
                </a:solidFill>
                <a:latin typeface="Trebuchet MS"/>
              </a:rPr>
              <a:t>Brzo postizanje učinka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500" spc="-1" strike="noStrike">
                <a:solidFill>
                  <a:srgbClr val="ffffff"/>
                </a:solidFill>
                <a:latin typeface="Trebuchet MS"/>
              </a:rPr>
              <a:t>Precizno doziranje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500" spc="-1" strike="noStrike">
                <a:solidFill>
                  <a:srgbClr val="ffffff"/>
                </a:solidFill>
                <a:latin typeface="Trebuchet MS"/>
              </a:rPr>
              <a:t>Ne zahteva skupu aparaturu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500" spc="-1" strike="noStrike">
                <a:solidFill>
                  <a:srgbClr val="ffffff"/>
                </a:solidFill>
                <a:latin typeface="Trebuchet MS"/>
              </a:rPr>
              <a:t>Kratak period oporavka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INTRAVENSKA SEDAC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234800" y="196704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Opštu anesteziju može izvoditi samo specijalista anesteziologije, zbog čega se obavlja u ustanovama</a:t>
            </a: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bolničkog karaktera, između ostalog i zbog potrebe oporavka posle anestezij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OPŠTA ANESTEZ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234800" y="196704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Preoperativna priprema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Trebuchet MS"/>
              </a:rPr>
              <a:t>Anamnez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Trebuchet MS"/>
              </a:rPr>
              <a:t>Klinički pregl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Trebuchet MS"/>
              </a:rPr>
              <a:t>Laboratorijske analiz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Trebuchet MS"/>
              </a:rPr>
              <a:t>Psihofizička priprem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OPŠTA ANESTEZIJA KOD DEC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234800" y="189072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Lokalna anestezija je farmakološko izazivanje neosetljivosti u jednom delu tela sa privremenim prekidom sprovođenja impulsa kroz nerv, pri čemu je svest pacijenta očuvan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LOKALNA ANALGEZ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234800" y="196704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Količina lokalnog anestetika koji se može primeniti u dece zavisi od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uzrasta deteta i telesne tež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vrste anestetik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dravstvenog stanja dete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MAKSIMALNE DOZ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6:33:46Z</dcterms:modified>
  <cp:revision>607</cp:revision>
  <dc:subject/>
  <dc:title>RTG U DEČJOJ STOMATOLOGIJI</dc:title>
</cp:coreProperties>
</file>